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6A6B-A148-4C40-9330-67F4EA840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sending an RTS [request to send] the node waits between a random period 0 and di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R lost most of the packets due to queue over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not the deadline specified in the se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not the deadline specified in the se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a messsage from I to d. then j is in F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ice of the node from the viable candidate set is made based on the highest re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OD and DSR do not perform well under 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93B-1F52-4CAB-8230-FE1A580C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C75-A19B-4804-966F-1317496B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FD3-D654-491C-83C6-EE0E6866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A49-517F-4B39-97D4-01BF13F0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A0E2-B2C4-445B-9736-39C3245B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D833-45A6-430B-9B4A-9D1FEC37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D5A1-F73C-4B4A-B1C8-5E3E3830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3C40-88E0-48CF-893A-17BEEE2A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1932-2509-4DDB-9D27-81E9FF32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2497-5D50-4CC5-8218-C17D1EBA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DBD1-FCD6-4D50-A780-C217750B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6D8-A5C2-4643-AC38-5CC5B515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E300-14B0-4604-9838-4F8C109E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461C-F95C-4B25-BB6B-B3B99899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4A62-339B-4BA8-A42C-6FF1A449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9CB7-78A2-4B47-84A0-CB2820BE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E3BD-D7FB-4C14-9FC0-62293C6F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FE1-324D-4049-A68C-9F5D788C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15A-E03D-4B4F-BAB2-E1D29BA2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77E-8D78-47E9-B3A8-F09B8DB5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A5A-0F46-41EF-870F-967E4CEA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5BA-00F3-427D-948C-0FBB12A4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C67-59BD-4375-8754-DAB7D470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F69-07AE-4E62-A524-B8F289FC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AD36-4B38-4FC3-B7F3-FD937575B3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FEBC-9C1A-4D4A-B58E-C178D8235C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 and SPEED 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d by Octav Chip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Location-Addressed Protocol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less transport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is based on geographic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mult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any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Geographic forwarding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dy 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s the node with the shortest geographic distance to the packet’s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every step the packet gets closer to the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really good for high densit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Velocity Monotonic Scheduling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FS policy is generally used in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poorly for realtim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both deadline and distance 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s priority based on the requested 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igher velocity denotes higher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Velocity Monotonic Scheduling(2)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lav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monotonic velocity (SM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dist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monotonic velocity (DM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dist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(D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AC –layer prioritization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mmunicating multiple host compete for the shared 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802.11b all messages have the same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nforce packet prioritization MAC protocols should provide distributed prioritization on packets from different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changed two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you can wait after i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S = BASE_DIFS * 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off increas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W=CW*(2 + (PRIORITY-1)/MAX_PRIOR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Experiment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ing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Source Routing (DS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lly designed for ID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based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 – fixed priority based on their e2e dea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ocity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Overall Miss Ratio of GF/DSR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Impact of scheduling on deadline misses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PEED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tate of the ar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 few real-time algorithms exist for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based on sensor’s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D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ealtime System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rned with two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regarding the immediate neighb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 Real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uniform speed delivery across th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 is this uniform speed guaranteed globally or piece-w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 why would the application want something like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MAC Layer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ffic load-bala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ized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d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peed Protocol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beacon exchange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estimation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less nondeterministic geographic forwarding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feedback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bone rero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d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mile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API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MulticastSend(position,radius,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message to all nodes in the specified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AnyCastSend(position,radius,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s a message to at least one node inside the specified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astSend(Global_ID,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message to the specified ID (id is given by its geographic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Receiv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API 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is the time constrai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PEED aims at providing a uniform packet delivery speed across the sensor network, so that the end-to-end delay of a packet is proportional to the distance between the source and destination. With this service, real-time applications can estimate end-to-end delay before making admission decisions. Delay differentiation for different classes of packets is left as future work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: if the velocity is imposed piece wise how can we give end-to end guarante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: By distance we mean Euclidian distance or the Euclidian distance of the pa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85f"/>
                </a:solidFill>
                <a:latin typeface="Arial"/>
              </a:rPr>
              <a:t>Neighbor beacon exchange scheme</a:t>
            </a:r>
            <a:endParaRPr b="0" i="1" lang="en-US" sz="36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ically broadcasts a beacon to neighbors to exchange loc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reduce traffic we can piggyback th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enhanc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ertising state changes may reduce number of beac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-demand beac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ay esti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pressure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 To De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lay estimation algorithm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scarce bandwidth cannot use probe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is measured at the sender as the difference between when the packet was queued and its ACK and the processing time on the recei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s track of multiple data points to compute the current delay using (EWMA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alavg = intervalavg + w * er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is the refresh time sample from this pac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 = I - intervalav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is the smoothing consta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lay estimation algorithm 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 estimation beacon is used to communicate to other neighbors the estimated de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 to make a set of neighboring nodes react to changes in traffic patters [avoid congestio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GF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set of nod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ing candidate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= d(i, dest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next = d(next, dest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y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7657" t="0" r="19173" b="0"/>
          <a:stretch/>
        </p:blipFill>
        <p:spPr>
          <a:xfrm>
            <a:off x="5638680" y="4425840"/>
            <a:ext cx="3505320" cy="2432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0" y="0"/>
                <a:ext cx="2733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76520" y="3200400"/>
                <a:ext cx="4267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76520" y="2362320"/>
                <a:ext cx="2819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286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600200" y="5105520"/>
                <a:ext cx="30211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pee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pDela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FG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|FSi|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|Viable|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didate=choose(Viable(FSi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o candi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relay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no nodes to support Ssetpoint downstream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packet if a random chosen between (0,1) 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ger than the relay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pressure beacon up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2057400"/>
                <a:ext cx="4419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iabl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t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tpo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odeling the sensor network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ns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 layer may provide Q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ce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s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ntens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generates congestion hot-sp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nd-to-end communication time depends on single-hop delay and the distance it has to tra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FG(3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Bound = 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2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/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set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2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end-to-end Euclidian distance measu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et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speed maintained across th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essages have the same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is really mean we can enforce a deadl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Neighbor feedback loop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a single hop speed above a desired Sset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etpoint is a network wide parameter that tunes how harsh the realtime requirement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85f"/>
                </a:solidFill>
                <a:latin typeface="Arial"/>
              </a:rPr>
              <a:t>Neighbor feedback loop</a:t>
            </a:r>
            <a:endParaRPr b="0" i="1" lang="en-US" sz="36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8625" t="0" r="0" b="0"/>
          <a:stretch/>
        </p:blipFill>
        <p:spPr>
          <a:xfrm>
            <a:off x="1143000" y="2286000"/>
            <a:ext cx="67816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Back pressure rerouting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routing due to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gested area is detected and the probability of sending to that node is 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be reinforcement should refer to a geographic area rather than a nod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410080" y="4673520"/>
            <a:ext cx="37339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Void avoidanc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ds occur if the density is not high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s with voids similarly to hotspots by applying backbon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packets may be dropped when trying to avoid a v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29200" y="4875120"/>
            <a:ext cx="41148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Last mile processing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ing close to the destination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any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mult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E2E Miss Ratio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etpoint = 1k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2e deadline = 200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Protocol Evaluation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4419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Improving Speed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Possible  Improvement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the application to specify different sp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 speed and 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 MAC layer to support priority sending messages with different pri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cheduling policy to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messages dropp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odeling the sensor network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ght integration with the physical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patter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coordin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ors coordinate with one another [usually by defining a group] in order to aggregat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involves a small number of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-base commun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data from the local group to the base 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multiple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Questions?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ontribution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gh level architecture for large wireless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define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ent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 Monotonic Scheduling (V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olicy for scheduling packets in a senso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PIs for micro-sensing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ize the number of packets meeting their e2e dead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well to large number of nodes and 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minimum communication over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 Stack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59436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Query/Event Service API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y {attribute list, area, time constraints, querier location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er {event, area, query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ally the results will be send back to the quer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ochipara</cp:lastModifiedBy>
  <cp:lastPrinted>1904-01-01T00:00:00Z</cp:lastPrinted>
  <dcterms:modified xsi:type="dcterms:W3CDTF">2003-09-12T21:53:18Z</dcterms:modified>
  <cp:revision>123</cp:revision>
  <dc:subject/>
  <dc:title>PowerPoint Presentation</dc:title>
</cp:coreProperties>
</file>